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100A-03B1-4959-967F-F27A5FB30DF6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93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35809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de Magny-en-Vex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659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508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9% des hommes et 6,8% des femmes de 80 ans et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érance de vie  à la naissance inférieure de 5 à 6 ans à celle du Val d’O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% d’employés et d’ouvriers et 15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12% +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7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8 469 € et 35 027 €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7% de la population et 19,1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812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hait d’impulser une dynamique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s densités de médecins généralistes et de chirurgiens dent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généralistes en sec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ôpital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étab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spécialistes de  premier recours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 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228600"/>
            <a:ext cx="705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er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’amélioration de la connaissance de l’état socio-sanitaire de la population par l’élaboration d’un diagno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S contribue par une aide financière de 25000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réduction des inégalités sociales de santé en lien avec l’environ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2T16:07:34Z</cp:lastPrinted>
  <dcterms:modified xsi:type="dcterms:W3CDTF">2011-12-14T10:16:27Z</dcterms:modified>
  <cp:revision>31</cp:revision>
  <dc:subject/>
  <dc:title>ESSA</dc:title>
</cp:coreProperties>
</file>